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4AA4-C251-4689-AAB8-63F71F7A3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A502-F27D-440F-A192-82459ED7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934-40D2-418F-8DFC-D4DC3A53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711E-CEF0-4296-86FC-876732FD6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35E-E423-4F35-BA9C-4320AE4D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334D-F866-4BB9-8AAD-244F5A35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316C-6497-4B8B-AF27-C06C119B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CB8-552B-407A-948E-6179F7F1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8E9-0A0E-491A-AFC7-389C4DD2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7AA-996E-459D-BB6E-C76AF8D1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09D-A63E-49C1-A03B-9D1D103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7C5F-A4E2-4717-A7D9-D4D29520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CEB7-297D-4359-BD5B-3FC0D8D1A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CC58-660B-4C07-9CA2-A78B42A5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C3F8-4C40-485C-ABBE-91625C9A5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ater.usgs.gov/pubs/circ/circ1156/circ1156.4D.fig1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spitalmanagement.net/contractor_images/sempermed/1.jpg&amp;imgrefurl=http://www.hospitalmanagement.net/contractors/disposables/sempermed/sempermed1.html&amp;usg=__-v6jYMNx4msVsHOpJ9SMlbsQBCE=&amp;h=386&amp;w=580&amp;sz=44&amp;hl=en&amp;start=14&amp;um=1&amp;tbnid=GYzoyBPG2B47nM:&amp;tbnh=89&amp;tbnw=134&amp;prev=/images%3Fq%3Dsurgical%2Bgloves%26um%3D1%26hl%3Den%26safe%3Dactive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om/imgres?imgurl=http://assembly.state.ny.us/comm/Toxic/20010531/4551p5.jpg&amp;imgrefurl=http://assembly.state.ny.us/comm/Toxic/20010531/&amp;usg=__yYAYtgeQy41W3-TeQaMscJMeZb4=&amp;h=274&amp;w=200&amp;sz=11&amp;hl=en&amp;start=9&amp;um=1&amp;tbnid=heo_j8rbmhfrqM:&amp;tbnh=113&amp;tbnw=82&amp;prev=/images%3Fq%3Div%2Bbags%26um%3D1%26hl%3Den%26safe%3Dactive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images.google.com/imgres?imgurl=http://www.avery.com/us/downloads/clipart/baby_pacifier.gif&amp;imgrefurl=http://17yearoldparent.blogspot.com/&amp;usg=__tw7oQ7fCtFlY96gTm_doj-J6XjQ=&amp;h=541&amp;w=382&amp;sz=8&amp;hl=en&amp;start=1&amp;um=1&amp;tbnid=H2e696m99kz7YM:&amp;tbnh=132&amp;tbnw=93&amp;prev=/images%3Fq%3Dpacifiers%26um%3D1%26hl%3Den%26safe%3Dactive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images.google.com/imgres?imgurl=http://www.ida.liu.se/~TDDB84/pictures/rubberDuck.jpg&amp;imgrefurl=http://www.xanga.com/mik_314/597264707/item/&amp;usg=__W__jNHwPKiobIR021_s0Fy8KB8c=&amp;h=1024&amp;w=1024&amp;sz=305&amp;hl=en&amp;start=34&amp;um=1&amp;tbnid=mBJQ46Ekp4_PWM:&amp;tbnh=150&amp;tbnw=150&amp;prev=/images%3Fq%3Drubber%2Bduckie%26start%3D20%26ndsp%3D20%26um%3D1%26hl%3Den%26safe%3Dactive%26sa%3DN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097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map.no/maps-gra/jpeg/s07100-2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vironmental Health and Toxic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5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85800" indent="-68580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ants are often measured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rcury Health Effec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ent on dose, duration and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Organic compoun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industry, pesticides, food additives, medici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circ115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514600"/>
            <a:ext cx="5867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ox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ly indestructib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1066680" y="1676520"/>
            <a:ext cx="1524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7238880" y="13716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2004840" y="1420920"/>
            <a:ext cx="52578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toxic manmade chem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 of Diox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 Amou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minimize expos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gent Oran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the U.S. Govn’t to clear foliage in Vietnam during the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isphenol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mone disruptor (see DV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PCB’s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Polychlorinated Bipheny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logo-cycle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4343400" cy="28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h, fish oils, milk, eggs, fats and oils, infant formula, human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1120" y="837720"/>
            <a:ext cx="449568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ealth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alth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and va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hthal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ciz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511520"/>
            <a:ext cx="3533760" cy="23464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4551p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90920" y="2819520"/>
            <a:ext cx="1993680" cy="2747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baby_pacifie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80880" y="4343400"/>
            <a:ext cx="1611360" cy="2286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rubberDuck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934320" y="2819520"/>
            <a:ext cx="18097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serious environmental health hazards U.S. children 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umulates in body over life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in soft tissue, bones and 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stored, is released very slowly through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FO and PFO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tic chemic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lots of th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See full size image"/>
          <p:cNvPicPr/>
          <p:nvPr/>
        </p:nvPicPr>
        <p:blipFill>
          <a:blip r:embed="rId1"/>
          <a:stretch/>
        </p:blipFill>
        <p:spPr>
          <a:xfrm>
            <a:off x="6172200" y="2590920"/>
            <a:ext cx="2362320" cy="188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Water-inlet-with-cap--with-spray-nozzel-Spray-burst-of-steam-Irons-20483499607"/>
          <p:cNvPicPr/>
          <p:nvPr/>
        </p:nvPicPr>
        <p:blipFill>
          <a:blip r:embed="rId2"/>
          <a:stretch/>
        </p:blipFill>
        <p:spPr>
          <a:xfrm>
            <a:off x="6248520" y="4876920"/>
            <a:ext cx="1895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cautionary Princi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chemical is likely to cause harm, it must be proven innoc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en the health of humans and the environment is at stake, it may not be necessary to wait for scientific certainty to take protective action.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se and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mall amounts something may be harmless, or even necessary, in larger amounts it’s a different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differ in how they respond to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F15_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F15_12"/>
          <p:cNvPicPr/>
          <p:nvPr/>
        </p:nvPicPr>
        <p:blipFill>
          <a:blip r:embed="rId1"/>
          <a:stretch/>
        </p:blipFill>
        <p:spPr>
          <a:xfrm>
            <a:off x="228600" y="228600"/>
            <a:ext cx="89154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7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se Response Curv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ful to be able to predict how a % of the population will respond to a given dos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me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D –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subjects experience som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gativ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toxi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LD  -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dose at which 50% of the people or organism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ie (leth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F15_13"/>
          <p:cNvPicPr/>
          <p:nvPr/>
        </p:nvPicPr>
        <p:blipFill>
          <a:blip r:embed="rId1"/>
          <a:stretch/>
        </p:blipFill>
        <p:spPr>
          <a:xfrm>
            <a:off x="0" y="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609480" y="5562720"/>
            <a:ext cx="2743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838080" y="5305320"/>
            <a:ext cx="4953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D –  50 (effective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D –  50 (toxic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D –  50  (lethal d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reshold Dose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hresh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level below this has no effect and level above this shows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a threshold: below a certain amount is totally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 with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old: there is no safe amount, even very small doses have an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F15_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cological Gradi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orgs vary in their tolerance or sensitivity to env. tox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-response curves for different species v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, 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last 100 years it was added to paint, gas, water pipes, health care supplies…  (330 million tons m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source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ility to withstand stress due to a pollutant or other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populations can develop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eavy metal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Can biomagnif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lobal emissions of metals to the atmosphere, 19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2286000"/>
            <a:ext cx="8610480" cy="35053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8"/>
          <p:cNvSpPr/>
          <p:nvPr/>
        </p:nvSpPr>
        <p:spPr>
          <a:xfrm>
            <a:off x="762120" y="5791320"/>
            <a:ext cx="7543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ange of heavy metals emitted into atmosphere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 = anthropogenic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The relative importance of anthropogenic sources of metals world-wid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33520"/>
            <a:ext cx="8153640" cy="45021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7"/>
          <p:cNvSpPr/>
          <p:nvPr/>
        </p:nvSpPr>
        <p:spPr>
          <a:xfrm>
            <a:off x="2209680" y="518148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thropogenic sources of heavy metals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95280" y="1905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al, oil, w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286000" y="23623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urning w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895480" y="1523880"/>
            <a:ext cx="22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By-product of mining zinc, nickle, l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Time trends for estimated deposition of lead and cadmium as determined in Greenland ice cores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609480"/>
            <a:ext cx="7086600" cy="40435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066680" y="4952880"/>
            <a:ext cx="670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ad and cadmium found in ice core samples in Green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dm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metal industry, strengthen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on res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pational hazard for wor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me foods:  kidneys, liver, mussels, oy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effec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Routes of Mercury Into the Body"/>
          <p:cNvPicPr/>
          <p:nvPr/>
        </p:nvPicPr>
        <p:blipFill>
          <a:blip r:embed="rId1"/>
          <a:stretch/>
        </p:blipFill>
        <p:spPr>
          <a:xfrm>
            <a:off x="533520" y="1143000"/>
            <a:ext cx="8381880" cy="5181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1371600" y="12193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#1 way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F15_6"/>
          <p:cNvPicPr/>
          <p:nvPr/>
        </p:nvPicPr>
        <p:blipFill>
          <a:blip r:embed="rId1"/>
          <a:stretch/>
        </p:blipFill>
        <p:spPr>
          <a:xfrm>
            <a:off x="609480" y="533520"/>
            <a:ext cx="8229600" cy="5860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6019920" y="4724280"/>
            <a:ext cx="16761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8"/>
          <p:cNvSpPr/>
          <p:nvPr/>
        </p:nvSpPr>
        <p:spPr>
          <a:xfrm flipH="1" flipV="1">
            <a:off x="7010280" y="4114800"/>
            <a:ext cx="7632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5867280" y="2743200"/>
            <a:ext cx="11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H="1">
            <a:off x="5029200" y="2819520"/>
            <a:ext cx="83808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5715000" y="1219320"/>
            <a:ext cx="2514600" cy="36828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Methylmerc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02:00:51Z</dcterms:created>
  <dc:creator>tosborne</dc:creator>
  <dc:description/>
  <dc:language>en-US</dc:language>
  <cp:lastModifiedBy>infosys</cp:lastModifiedBy>
  <cp:lastPrinted>2014-02-05T17:27:29Z</cp:lastPrinted>
  <dcterms:modified xsi:type="dcterms:W3CDTF">2016-02-05T19:53:43Z</dcterms:modified>
  <cp:revision>44</cp:revision>
  <dc:subject/>
  <dc:title>Environmental Health and Toxicology</dc:title>
</cp:coreProperties>
</file>